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907588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1448-0AA8-47EC-B334-A483C347D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4D3C-F540-44B2-B42E-C2F1030BB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D0BA-7967-4776-AB92-6B0E397EA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AA14-0E48-4CB8-B47C-B524B48F4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B055-9C68-4888-926A-BC16ABC71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B8BD-BA6C-4ECB-B1F5-1D6DDB44E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B4EF-D1D7-4E6A-A92B-6838DB848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88AA-9989-46E2-B8ED-9F64C6B72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6C25-EF2D-4877-9F31-4F0157A5D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BF67-741D-4C55-BCDD-8DF2E4DF4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4917-99C3-4EEB-A76C-7F3776C4C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EB79-A6D0-4080-B4AA-D5777F12C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EF45B-3C1B-43D9-BCBF-FAD028AF16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8477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укціон електричної енергії – основа укладання двосторонніх договорів на 1 та 2 етапах переходу до нової моделі ринку електричної енергії України</a:t>
            </a:r>
            <a:br>
              <a:rPr sz="2000"/>
            </a:br>
            <a:br>
              <a:rPr sz="2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04560" y="4419720"/>
            <a:ext cx="921708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. Євдокімов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ступник директора ДП «Енергоринок» - начальник Розрахункового центр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44BA-827D-4D77-9DF9-CE7B43C32AF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27040" y="55080"/>
            <a:ext cx="885024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укціон з продажу електричної енергії на 1 етапі переходу до нової модел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903276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Аукціон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– купівля-продаж електроенергії на ринку двосторонніх договорів в організований спосіб. Передбачається  на 1 етапі використовувати для укладання двосторонніх договорів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тільки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через аукціонні торги. Організацію проведення аукціонних торгів з продажу електричної енергії буде проводити Державне підприємство “Енергоринок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Доцільність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аукціону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забезпечує прозоре і чесне ціноутворенн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надає чіткі цінові індикатори для сектору вільної торгівлі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надає можливість на 1 етапі “вчитись” учасникам ринку новим механізмам продажу електричної енергії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легкий моніторинг з боку НКР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Недоліки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аукціону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умови купівлі-продажу обмежуються стандартними умовами (рівний графік), що обмежує коло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можливих учасників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Разом з тим, це  буде перший крок до роботи нової моделі ринку електричної енергії Украї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F262-BB1D-4563-B1BC-5D87C67B701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9400" y="274320"/>
            <a:ext cx="89010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Основні принципи аукціонних торгів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на 1 етапі переходу до нової моделі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60520" y="1341360"/>
            <a:ext cx="417672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Принцип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Продаж електроенергії, яка вироблена на території України, проводиться </a:t>
            </a:r>
            <a:r>
              <a:rPr b="0" lang="uk-UA" sz="1400" spc="-1" strike="noStrike" u="sng">
                <a:solidFill>
                  <a:srgbClr val="000000"/>
                </a:solidFill>
                <a:uFillTx/>
                <a:latin typeface="Arial"/>
              </a:rPr>
              <a:t>виключно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для забезпечення потреб споживачів Україн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Обов'язкова участь виробників електричної енергії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Добровільна участь постачальників електричної енергії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Продуктом торів є рівний графік постачання електроенергії із застосуванням “атомно-теплового сендвіча”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Механізм проведення аукціонних торгів по лота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Купівля електроенергії постачальниками проводиться не більше 80% від базового навантаження кваліфікованих споживачів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952880" y="1243080"/>
            <a:ext cx="4176720" cy="49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Спеціальні регуляторні рішення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Затвердження розмір квот виробників для ринку двосторонніх договорі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Визначення критерії кваліфікації споживачі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Встановлення мінімальної резервної ціни для виробників (стартова аукціонна ціна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Визначення розміру комісійного збору та попередніх внесків по проведенню аукціон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Визначення методики розподілу вартості лотів між виробниками проданих на аукціоні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Затвердження складу аукціонного комітет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4972-74CB-4964-9940-E7E976D5233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9210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Схема проведення аукціонних торгів на електричну енергії </a:t>
            </a:r>
            <a:br>
              <a:rPr sz="2400"/>
            </a:b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(подання пропозицій та заявок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28760" y="1197000"/>
            <a:ext cx="89820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838080" y="3886200"/>
            <a:ext cx="2081160" cy="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919240" y="3884760"/>
            <a:ext cx="1800" cy="353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33400" y="3884760"/>
            <a:ext cx="1800" cy="344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886200" y="3200400"/>
            <a:ext cx="2209680" cy="8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100" spc="-1" strike="noStrike">
                <a:solidFill>
                  <a:srgbClr val="000000"/>
                </a:solidFill>
                <a:latin typeface="Arial"/>
              </a:rPr>
              <a:t>подання пропозиції на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uk-UA" sz="1100" spc="-1" strike="noStrike">
                <a:solidFill>
                  <a:srgbClr val="000000"/>
                </a:solidFill>
                <a:latin typeface="Arial"/>
              </a:rPr>
              <a:t>продаж ел.ен. (згідно квоти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100" spc="-1" strike="noStrike">
                <a:solidFill>
                  <a:srgbClr val="000000"/>
                </a:solidFill>
                <a:latin typeface="Arial"/>
              </a:rPr>
              <a:t>оплата комісійного збор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uk-UA" sz="1100" spc="-1" strike="noStrike">
                <a:solidFill>
                  <a:srgbClr val="000000"/>
                </a:solidFill>
                <a:latin typeface="Arial"/>
              </a:rPr>
              <a:t>(встановлюється НКРЕ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38080" y="1981080"/>
            <a:ext cx="2590920" cy="56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066680" y="2179800"/>
            <a:ext cx="1981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АУКЦІОННИЙ   КОМІТ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138400" y="3314880"/>
            <a:ext cx="1504800" cy="46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545160" y="4114800"/>
            <a:ext cx="313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Н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34120" y="1600200"/>
            <a:ext cx="2971800" cy="46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95880" y="1722600"/>
            <a:ext cx="1524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ДП "Енергоринок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867280" y="3962520"/>
            <a:ext cx="1648080" cy="46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47880" y="5460840"/>
            <a:ext cx="1085760" cy="573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90520" y="4238640"/>
            <a:ext cx="1386000" cy="573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90520" y="4238640"/>
            <a:ext cx="1843200" cy="4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57200" y="4343400"/>
            <a:ext cx="1752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ЕК «Енергоатом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514600" y="4267080"/>
            <a:ext cx="190512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666880" y="4343400"/>
            <a:ext cx="230976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Т «Центренерго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Т «Дніпроенерго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Т «Західенерго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Т «Донбасенерго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Т «Східенерго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157400" y="8524800"/>
            <a:ext cx="5229000" cy="18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105520" y="5562720"/>
            <a:ext cx="373356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Інформація з веб-сайту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ДП «Енергоринок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(аукціонний бюллетень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334120" y="1295280"/>
            <a:ext cx="29718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786280" y="1371600"/>
            <a:ext cx="2140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Веб-сайт  ДП «Енергоринок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095880" y="4648320"/>
            <a:ext cx="1295640" cy="7617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705720" y="2057400"/>
            <a:ext cx="0" cy="1905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981080" y="2057400"/>
            <a:ext cx="4419720" cy="1828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3429000" y="1828800"/>
            <a:ext cx="190512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2057400" y="1447560"/>
            <a:ext cx="0" cy="53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057400" y="1447920"/>
            <a:ext cx="3276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209680" y="1143000"/>
            <a:ext cx="27432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Опрелюднення аукціонного бюлетня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581280" y="1720800"/>
            <a:ext cx="198144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Складання аукціонного бюлетн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81680" y="2590920"/>
            <a:ext cx="2895840" cy="8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100" spc="-1" strike="noStrike">
                <a:solidFill>
                  <a:srgbClr val="000000"/>
                </a:solidFill>
                <a:latin typeface="Arial"/>
              </a:rPr>
              <a:t>подання заявок на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uk-UA" sz="1100" spc="-1" strike="noStrike">
                <a:solidFill>
                  <a:srgbClr val="000000"/>
                </a:solidFill>
                <a:latin typeface="Arial"/>
              </a:rPr>
              <a:t>купівлю ел.ен.(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uk-UA" sz="1100" spc="-1" strike="noStrike">
                <a:solidFill>
                  <a:srgbClr val="000000"/>
                </a:solidFill>
                <a:latin typeface="Arial"/>
              </a:rPr>
              <a:t>80% баз. навант.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100" spc="-1" strike="noStrike">
                <a:solidFill>
                  <a:srgbClr val="000000"/>
                </a:solidFill>
                <a:latin typeface="Arial"/>
              </a:rPr>
              <a:t>оплата попереднього внеск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uk-UA" sz="1100" spc="-1" strike="noStrike">
                <a:solidFill>
                  <a:srgbClr val="000000"/>
                </a:solidFill>
                <a:latin typeface="Arial"/>
              </a:rPr>
              <a:t>(1% від початкової вартості заявки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7E32-DE74-4A70-8A5A-2CD5865D308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92203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Схема проведення аукціонних торгів на електричну енергії </a:t>
            </a:r>
            <a:br>
              <a:rPr sz="2400"/>
            </a:b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(проведення процедури торгі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28760" y="1197000"/>
            <a:ext cx="89820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838080" y="3094200"/>
            <a:ext cx="4191120" cy="563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828800" y="3246480"/>
            <a:ext cx="1981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АУКЦІОННИЙ   КОМІТ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629400" y="4114800"/>
            <a:ext cx="313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Н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334120" y="1600200"/>
            <a:ext cx="2971800" cy="46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095880" y="1722600"/>
            <a:ext cx="1524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ДП "Енергоринок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743440" y="3962520"/>
            <a:ext cx="2028960" cy="46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947880" y="5460840"/>
            <a:ext cx="1085760" cy="573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157400" y="8524800"/>
            <a:ext cx="5229000" cy="18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590920" y="5867280"/>
            <a:ext cx="373356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Інформація з веб-сайту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ДП «Енергоринок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(перегляд проведення торгів в режимі он-лайн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1295280"/>
            <a:ext cx="29718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786280" y="1371600"/>
            <a:ext cx="2140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Веб-сайт  ДП «Енергоринок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62320" y="4876920"/>
            <a:ext cx="4114800" cy="7617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6781680" y="2057400"/>
            <a:ext cx="0" cy="1905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514600" y="1523880"/>
            <a:ext cx="27432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Надання результатів проведення торгів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324480" y="2819520"/>
            <a:ext cx="28958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00"/>
                </a:solidFill>
                <a:latin typeface="Arial"/>
              </a:rPr>
              <a:t>Участь в торгах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1752480"/>
            <a:ext cx="0" cy="1371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743200" y="1752480"/>
            <a:ext cx="2590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62520" y="1905120"/>
            <a:ext cx="1218960" cy="106668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2209680"/>
            <a:ext cx="19810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Загальне керівництво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00400" y="3962520"/>
            <a:ext cx="2286000" cy="46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8080" y="3962520"/>
            <a:ext cx="2028960" cy="46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429000" y="4038480"/>
            <a:ext cx="1752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робники, які подал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позиці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363680" y="4114800"/>
            <a:ext cx="998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остерігачі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E534-7604-4FE5-A990-584E8017B2C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92203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Схема проведення аукціонних торгів на електричну енергії </a:t>
            </a:r>
            <a:br>
              <a:rPr sz="2400"/>
            </a:b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(укладання двосторонніх договорі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28760" y="1197000"/>
            <a:ext cx="89820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86200" y="3200400"/>
            <a:ext cx="2209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00"/>
                </a:solidFill>
                <a:latin typeface="Arial"/>
              </a:rPr>
              <a:t>Підписання аукціонних свідоцтв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38080" y="2637000"/>
            <a:ext cx="2590920" cy="563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219320" y="2819520"/>
            <a:ext cx="1981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АУКЦІОННИЙ   КОМІТ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38400" y="3314880"/>
            <a:ext cx="1504800" cy="46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954840" y="5099040"/>
            <a:ext cx="313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Н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334120" y="1600200"/>
            <a:ext cx="2971800" cy="46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95880" y="1722600"/>
            <a:ext cx="1524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ДП "Енергоринок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276960" y="4946760"/>
            <a:ext cx="1647720" cy="46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947880" y="5460840"/>
            <a:ext cx="1085760" cy="573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90520" y="5599080"/>
            <a:ext cx="1386000" cy="573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90520" y="5599080"/>
            <a:ext cx="1843200" cy="4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5703840"/>
            <a:ext cx="1752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ЕК «Енергоатом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04920" y="4267080"/>
            <a:ext cx="190476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3440" y="4343400"/>
            <a:ext cx="230976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Т «Центренерго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Т «Дніпроенерго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Т «Західенерго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Т «Донбасенерго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Т «Східенерго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157400" y="8524800"/>
            <a:ext cx="5229000" cy="18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5334120" y="1295280"/>
            <a:ext cx="29718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86280" y="1371600"/>
            <a:ext cx="2140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Веб-сайт  ДП «Енергоринок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7086600" y="2057040"/>
            <a:ext cx="0" cy="2895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2895480" y="2057400"/>
            <a:ext cx="3505320" cy="3124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057400" y="1828800"/>
            <a:ext cx="0" cy="838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057400" y="1828800"/>
            <a:ext cx="3276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209680" y="1447920"/>
            <a:ext cx="27432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Підписання протоколу результатів проведених торгів та аукціонних свідоцтв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324480" y="3809880"/>
            <a:ext cx="28958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00"/>
                </a:solidFill>
                <a:latin typeface="Arial"/>
              </a:rPr>
              <a:t>Підписання аукціонних свідоцтв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895480" y="4648320"/>
            <a:ext cx="0" cy="1143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2209320" y="464832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2133720" y="5791320"/>
            <a:ext cx="761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581280" y="4648320"/>
            <a:ext cx="2514600" cy="1371600"/>
          </a:xfrm>
          <a:prstGeom prst="leftRightArrow">
            <a:avLst>
              <a:gd name="adj1" fmla="val 50000"/>
              <a:gd name="adj2" fmla="val 3649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Укладання двосторонні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договорі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47D1-78E6-4376-9659-0B02E4F1678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Дякую за увагу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86104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В. Євдокімов – заступник директора ДП “Енергоринок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559B-B3A5-4B5F-A81E-A667147AA34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4:07:43Z</dcterms:created>
  <dc:creator>Rogozin</dc:creator>
  <dc:description/>
  <dc:language>en-US</dc:language>
  <cp:lastModifiedBy>yanel</cp:lastModifiedBy>
  <dcterms:modified xsi:type="dcterms:W3CDTF">2009-04-10T06:15:22Z</dcterms:modified>
  <cp:revision>207</cp:revision>
  <dc:subject/>
  <dc:title>Питання реалізації   1-го етапу реформування  ринку електричної енергії</dc:title>
</cp:coreProperties>
</file>