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5936F-AA77-4C15-8E61-50A47E68F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B13C-65BF-4C8D-B14E-5131BA1B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EB02-6220-4C94-BAD2-CB0E66E5C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683A4-A09E-42C7-8DE3-6FBDCD9E9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53524-526E-43E9-ABA1-1DDFE9AAA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F77E9-DF55-4576-8164-51632742B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1BA9B-3CDC-4B76-8B9D-4D9FBFBEA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84E6B-8031-4CFC-B5E7-EF9A51861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187EF-7200-4454-90C8-FBDD1E638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659A9-ED94-46C3-A41E-93073EFC0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D88A9-4AB7-4652-9355-711EB46D4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A8A9-588B-44E7-97AD-6D1A7EEE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C885-7CDA-47D0-8766-817413C0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A1C05-9405-4203-8B67-902AEAFEA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46184-A282-48E9-BD4C-D3F005E11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027E5-5D52-4CA7-AB63-10F2F9356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320F8-72EE-4682-8DF0-157AE9D6D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6D14-5AF4-4068-AE28-AEC159015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8FA6A-D462-4C44-B777-C5806575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63F6-8EAD-4AB2-9663-B20486923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A81B-5E4B-4D26-A4AF-31AEED55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7800-E56C-4C7C-B969-D1658B1A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F0A4-769C-4FE4-8CD0-4CB4E889A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574C-8FEF-4F3C-A90F-6250FA001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5098-553C-4675-8320-5941CB0CB6A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7A39-B9C7-4E24-B4DD-A88730E0994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tso-net.org/Activities/edi/role/role-model-v2008-02.pdf" TargetMode="External"/><Relationship Id="rId2" Type="http://schemas.openxmlformats.org/officeDocument/2006/relationships/hyperlink" Target="http://ebix.neo-noesis.de/documents/ebIX_model_Measure_Introduction_0_9.doc" TargetMode="External"/><Relationship Id="rId3" Type="http://schemas.openxmlformats.org/officeDocument/2006/relationships/hyperlink" Target="http://ebix.neo-noesis.de/documents/ebIX_model_Measure_Introduction_0_9.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1440" y="1430280"/>
            <a:ext cx="7238880" cy="99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66"/>
                </a:solidFill>
                <a:latin typeface="Arial"/>
              </a:rPr>
              <a:t>Кодекс комерційного обліку, як основний нормативний документ з організації комерційного обліку реформованого ринку електричної енергії України</a:t>
            </a:r>
            <a:endParaRPr b="0" lang="en-US" sz="24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опович Владислав Іванович, </a:t>
            </a:r>
            <a:endParaRPr b="0" lang="en-US" sz="2100" spc="-1" strike="noStrike">
              <a:solidFill>
                <a:srgbClr val="000000"/>
              </a:solidFill>
              <a:latin typeface="Verdan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Начальник управління інформаційних технологій НКРЕ України</a:t>
            </a:r>
            <a:endParaRPr b="0" lang="en-US" sz="21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андидат фіз.-мат. нау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жна точка комерційного обліку та система комерційного обліку мають бути зареєстровані в реєстрі адміністратора комерційного обліку у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ослуги (роботи) із встановлення та технічного обслуговування систем та засобів комерційного обліку, збору, обробки та передачі даних комерційного обліку надаються суб’єктами господарської діяльності, які акредитовані в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4D59238-6012-44C9-AC16-116C618BC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ослуги (роботи) із встановлення та технічного обслуговування систем та засобів комерційного обліку, збору, обробки та передачі даних комерційного обліку надаються суб’єктами господарської діяльності, які акредитовані в порядку, встановленому кодексом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уб’єкти  ринку та споживачі електричної енергії повинні забезпечити безперешкодний доступ до засобів та систем комерційного обліку та даних комерційного обліку електричної енергії уповноважених на це осіб у порядку та у межах, передбачених кодексом комерційного обліку.</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AFC0260-1DAB-4DE2-9CF1-2AA36281D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Електропередавальна та електророзподільні організації не мають право відмовити учаснику ринку та споживачу, що приєднаний до їх мереж, у наданні послуг із встановлення та технічного обслуговування систем та засобів комерційного обліку, збору, обробки та передачі даних комерційного обліку.</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декс комерційного обліку є обов’язковим для всіх суб’єктів ринку, адміністратора комерційного обліку, операторів засобів комерційного обліку, операторів даних комерційного обліку та споживачів електричної енергії.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1FFAAB5-EFAD-4766-932D-28D3585A8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006666"/>
                </a:solidFill>
                <a:latin typeface="Arial"/>
              </a:rPr>
              <a:t>Дякую за увагу!</a:t>
            </a:r>
            <a:endParaRPr b="0" lang="en-US" sz="4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Попович Владислав Іванович,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чальник управління інформаційних технологій НКРЕ Україн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кандидат фіз.-мат. наук,</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ел. 8(044)-454-70-12</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ovych@nerc.gov.ua</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AF4F442F-DA89-4004-92F8-29104C99CFC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Arial"/>
              </a:rPr>
              <a:t>Глосарій термінів щодо комерційного обліку</a:t>
            </a: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кодекс комерційного обліку</a:t>
            </a:r>
            <a:r>
              <a:rPr b="0" lang="uk-UA" sz="1500" spc="-1" strike="noStrike">
                <a:solidFill>
                  <a:srgbClr val="000000"/>
                </a:solidFill>
                <a:latin typeface="Verdana"/>
              </a:rPr>
              <a:t> - звід вимог та правил, які регулюють питання організації комерційного обліку електричної енергії на ринку електричної енергії та взаємовідносин суб’єктів ринку, операторів засобів комерційного обліку, операторів даних комерційного обліку та споживачів під час організації комерційного обліку;</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комерційний облік електричної енергії</a:t>
            </a:r>
            <a:r>
              <a:rPr b="0" lang="uk-UA" sz="1500" spc="-1" strike="noStrike">
                <a:solidFill>
                  <a:srgbClr val="000000"/>
                </a:solidFill>
                <a:latin typeface="Verdana"/>
              </a:rPr>
              <a:t> - процес вимірювання  електричної енергії (або отримання інформації іншими способами, визначеними нормативними документами), збору, обробки, перевірки, передачі та зберігання даних щодо кількості, якості електричної енергії та потужності з метою проведення фінансових розрахунків;</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точка приєднання електроустановки</a:t>
            </a:r>
            <a:r>
              <a:rPr b="0" lang="uk-UA" sz="1500" spc="-1" strike="noStrike">
                <a:solidFill>
                  <a:srgbClr val="000000"/>
                </a:solidFill>
                <a:latin typeface="Verdana"/>
              </a:rPr>
              <a:t> – запроектована або фактично існуюча межа балансової належності електроустановки;</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точка комерційного обліку</a:t>
            </a:r>
            <a:r>
              <a:rPr b="0" lang="uk-UA" sz="1500" spc="-1" strike="noStrike">
                <a:solidFill>
                  <a:srgbClr val="000000"/>
                </a:solidFill>
                <a:latin typeface="Verdana"/>
              </a:rPr>
              <a:t> – точка, в якій за допомогою засобів вимірювання або розрахунковим шляхом визначаються значення обсягів електричної енергії та величин потужності для проведення розрахунків;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6962F254-F6A2-472B-8035-72B5D5621F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66"/>
                </a:solidFill>
                <a:latin typeface="Arial"/>
              </a:rPr>
              <a:t>Модель ролей </a:t>
            </a:r>
            <a:r>
              <a:rPr b="1" i="1" lang="ru-RU" sz="4000" spc="-1" strike="noStrike">
                <a:solidFill>
                  <a:srgbClr val="006666"/>
                </a:solidFill>
                <a:latin typeface="Arial"/>
              </a:rPr>
              <a:t>ETSO</a:t>
            </a:r>
            <a:r>
              <a:rPr b="1" i="1" lang="en-US" sz="4000" spc="-1" strike="noStrike">
                <a:solidFill>
                  <a:srgbClr val="006666"/>
                </a:solidFill>
                <a:latin typeface="Arial"/>
              </a:rPr>
              <a:t>/ebIX.</a:t>
            </a:r>
            <a:r>
              <a:rPr b="1" lang="ru-RU" sz="4000" spc="-1" strike="noStrike">
                <a:solidFill>
                  <a:srgbClr val="006666"/>
                </a:solidFill>
                <a:latin typeface="Arial"/>
              </a:rPr>
              <a:t> </a:t>
            </a:r>
            <a:br>
              <a:rPr sz="4000"/>
            </a:br>
            <a:r>
              <a:rPr b="0" lang="ru-RU" sz="1400" spc="-1" strike="noStrike" u="sng">
                <a:solidFill>
                  <a:srgbClr val="006666"/>
                </a:solidFill>
                <a:uFillTx/>
                <a:latin typeface="Arial"/>
                <a:hlinkClick r:id="rId1"/>
              </a:rPr>
              <a:t>http://www.etso-net.org/Activities/edi/role/role-model-v2008-02.pdf</a:t>
            </a:r>
            <a:r>
              <a:rPr b="0" lang="uk-UA" sz="4000" spc="-1" strike="noStrike" u="sng">
                <a:solidFill>
                  <a:srgbClr val="006666"/>
                </a:solidFill>
                <a:uFillTx/>
                <a:latin typeface="Arial"/>
                <a:hlinkClick r:id="rId2"/>
              </a:rPr>
              <a:t>_x000b_</a:t>
            </a:r>
            <a:r>
              <a:rPr b="0" lang="uk-UA" sz="1400" spc="-1" strike="noStrike" u="sng">
                <a:solidFill>
                  <a:srgbClr val="006666"/>
                </a:solidFill>
                <a:uFillTx/>
                <a:latin typeface="Arial"/>
                <a:hlinkClick r:id="rId3"/>
              </a:rPr>
              <a:t>http://ebix.neo-noesis.de/documents/ebIX_model_Measure_Introduction_0_9.doc</a:t>
            </a:r>
            <a:endParaRPr b="0" lang="en-US" sz="1400" spc="-1" strike="noStrike">
              <a:solidFill>
                <a:srgbClr val="006666"/>
              </a:solidFill>
              <a:latin typeface="Arial"/>
            </a:endParaRPr>
          </a:p>
        </p:txBody>
      </p:sp>
      <p:sp>
        <p:nvSpPr>
          <p:cNvPr id="95" name="PlaceHolder 2"/>
          <p:cNvSpPr>
            <a:spLocks noGrp="1"/>
          </p:cNvSpPr>
          <p:nvPr>
            <p:ph/>
          </p:nvPr>
        </p:nvSpPr>
        <p:spPr>
          <a:xfrm>
            <a:off x="1369800" y="1827360"/>
            <a:ext cx="752292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Verdana"/>
              </a:rPr>
              <a:t>Сторона</a:t>
            </a:r>
            <a:r>
              <a:rPr b="0" lang="uk-UA" sz="2100" spc="-1" strike="noStrike">
                <a:solidFill>
                  <a:srgbClr val="000000"/>
                </a:solidFill>
                <a:latin typeface="Verdana"/>
              </a:rPr>
              <a:t> – организація, чи частина организації, що приймає участь у діловій трансзакції. У межах даної ділової транзакції сторона приймає певну роль, чи ряд ролей.</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Verdana"/>
              </a:rPr>
              <a:t>Роль</a:t>
            </a:r>
            <a:r>
              <a:rPr b="0" lang="uk-UA" sz="2100" spc="-1" strike="noStrike">
                <a:solidFill>
                  <a:srgbClr val="000000"/>
                </a:solidFill>
                <a:latin typeface="Verdana"/>
              </a:rPr>
              <a:t> - представляє задану функцію поведінки сторони при завнішніх ділових відносинах. Сторони не можуть розділяти між собою роль. Фірми виконують свою діятельність, виконуючи ролі, наприклад - системний оператор, постачальник. Ролі описують завнішні ділові відносини сторін відносно цілі даної ділової транзакції.</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05EB91ED-8BFD-4385-BFF0-EDC098847D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Role model for Exchange of Metered Data</a:t>
            </a:r>
            <a:endParaRPr b="0" lang="en-US" sz="3200" spc="-1" strike="noStrike">
              <a:solidFill>
                <a:srgbClr val="006666"/>
              </a:solidFill>
              <a:latin typeface="Arial"/>
            </a:endParaRPr>
          </a:p>
        </p:txBody>
      </p:sp>
      <p:pic>
        <p:nvPicPr>
          <p:cNvPr id="97" name="" descr=""/>
          <p:cNvPicPr/>
          <p:nvPr/>
        </p:nvPicPr>
        <p:blipFill>
          <a:blip r:embed="rId1"/>
          <a:stretch/>
        </p:blipFill>
        <p:spPr>
          <a:xfrm>
            <a:off x="1258920" y="1407960"/>
            <a:ext cx="7416720" cy="5032440"/>
          </a:xfrm>
          <a:prstGeom prst="rect">
            <a:avLst/>
          </a:prstGeom>
          <a:ln w="0">
            <a:noFill/>
          </a:ln>
        </p:spPr>
      </p:pic>
      <p:sp>
        <p:nvSpPr>
          <p:cNvPr id="3" name="PlaceHolder 2"/>
          <p:cNvSpPr>
            <a:spLocks noGrp="1"/>
          </p:cNvSpPr>
          <p:nvPr>
            <p:ph type="sldNum" idx="3"/>
          </p:nvPr>
        </p:nvSpPr>
        <p:spPr/>
        <p:txBody>
          <a:bodyPr/>
          <a:p>
            <a:fld id="{4C4D8809-5C4E-454A-BF52-86C204D0F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ролі </a:t>
            </a:r>
            <a:br>
              <a:rPr sz="2800"/>
            </a:br>
            <a:r>
              <a:rPr b="0" lang="uk-UA" sz="18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8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адміністратор комерційного обліку електричної енергії  (адміністратор комерційного обліку)</a:t>
            </a:r>
            <a:r>
              <a:rPr b="0" lang="uk-UA" sz="1500" spc="-1" strike="noStrike">
                <a:solidFill>
                  <a:srgbClr val="000000"/>
                </a:solidFill>
                <a:latin typeface="Verdana"/>
              </a:rPr>
              <a:t> – суб’єкт ринку електричної енергії, який виконує функції з адміністрування відносин пов’язаних з комерційним обліком на ринку електричної енергії;</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оператор даних комерційного обліку</a:t>
            </a:r>
            <a:r>
              <a:rPr b="0" lang="uk-UA" sz="1500" spc="-1" strike="noStrike">
                <a:solidFill>
                  <a:srgbClr val="000000"/>
                </a:solidFill>
                <a:latin typeface="Verdana"/>
              </a:rPr>
              <a:t> – суб’єкт господарської діяльності, який акредитований у встановленому порядку для надання послуг із збору, обробки та передачі даних комерційного обліку;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оператор засобів комерційного обліку</a:t>
            </a:r>
            <a:r>
              <a:rPr b="0" lang="uk-UA" sz="1500" spc="-1" strike="noStrike">
                <a:solidFill>
                  <a:srgbClr val="000000"/>
                </a:solidFill>
                <a:latin typeface="Verdana"/>
              </a:rPr>
              <a:t> -  суб’єкт господарської діяльності, який акредитований у встановленому порядку для надання послуг (виконання робіт) із встановлення та технічного обслуговування засобів та систем комерційного обліку;</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Verdana"/>
              </a:rPr>
              <a:t>сторона відповідальна за комерційний облік</a:t>
            </a:r>
            <a:r>
              <a:rPr b="0" lang="uk-UA" sz="1500" spc="-1" strike="noStrike">
                <a:solidFill>
                  <a:srgbClr val="000000"/>
                </a:solidFill>
                <a:latin typeface="Verdana"/>
              </a:rPr>
              <a:t> – суб’єкт господарювання, який зареєстрований у встановленому порядку, як сторона відповідальна за забезпечення комерційного обліку електричної енергії в точці приєднання електроустановки;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0FDF59A0-6CFE-4AAF-B9CC-BE232378D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Arial"/>
              </a:rPr>
              <a:t>Основні ролі </a:t>
            </a:r>
            <a:r>
              <a:rPr b="1" i="1" lang="ru-RU" sz="4000" spc="-1" strike="noStrike">
                <a:solidFill>
                  <a:srgbClr val="006666"/>
                </a:solidFill>
                <a:latin typeface="Arial"/>
              </a:rPr>
              <a:t>ETSO</a:t>
            </a:r>
            <a:r>
              <a:rPr b="1" i="1" lang="en-US" sz="4000" spc="-1" strike="noStrike">
                <a:solidFill>
                  <a:srgbClr val="006666"/>
                </a:solidFill>
                <a:latin typeface="Arial"/>
              </a:rPr>
              <a:t>/ebIX</a:t>
            </a:r>
            <a:endParaRPr b="0" lang="en-US" sz="40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дміністратор електролічильника</a:t>
            </a:r>
            <a:r>
              <a:rPr b="0" lang="uk-UA" sz="1400" spc="-1" strike="noStrike">
                <a:solidFill>
                  <a:srgbClr val="000000"/>
                </a:solidFill>
                <a:latin typeface="Verdana"/>
              </a:rPr>
              <a:t> - сторона, відповідальна за збереження та підтримку бази даних про електролічильники.</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ператор електролічильника </a:t>
            </a:r>
            <a:r>
              <a:rPr b="0" lang="uk-UA" sz="1400" spc="-1" strike="noStrike">
                <a:solidFill>
                  <a:srgbClr val="000000"/>
                </a:solidFill>
                <a:latin typeface="Verdana"/>
              </a:rPr>
              <a:t>- сторона, відповідальна за установку, подтримку, тестування, сертифікацію та вивід із експлуатації фізичних електролічильників.</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Колектор даних вимірювань </a:t>
            </a:r>
            <a:r>
              <a:rPr b="0" lang="uk-UA" sz="1400" spc="-1" strike="noStrike">
                <a:solidFill>
                  <a:srgbClr val="000000"/>
                </a:solidFill>
                <a:latin typeface="Verdana"/>
              </a:rPr>
              <a:t>- сторона, відповідальна за зчитування електролічильників та контроль якості зчитування.</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Сторона відповідальна за дані обліку </a:t>
            </a:r>
            <a:r>
              <a:rPr b="0" lang="uk-UA" sz="1400" spc="-1" strike="noStrike">
                <a:solidFill>
                  <a:srgbClr val="000000"/>
                </a:solidFill>
                <a:latin typeface="Verdana"/>
              </a:rPr>
              <a:t>- сторона, відповідальна за упорядкування та валідацію даних вимірювань, основаних на зібраних даних, прийнятих від Колектора даних вимірювань. Сторона відповідає також за архів історичних даних вимірювань у пункті вимірювання.</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грегатор даних обліку </a:t>
            </a:r>
            <a:r>
              <a:rPr b="0" lang="uk-UA" sz="1400" spc="-1" strike="noStrike">
                <a:solidFill>
                  <a:srgbClr val="000000"/>
                </a:solidFill>
                <a:latin typeface="Verdana"/>
              </a:rPr>
              <a:t>- сторона, сторона, відповідальна за упорядкування та кваліфікацію даних вимірювань, отриманих від Сторони відповідальної за дані обліку. Ці дані агрегуються (об’днуються) в залежності від встановлених правил ринку.</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дміністратор точки обліку </a:t>
            </a:r>
            <a:r>
              <a:rPr b="0" lang="uk-UA" sz="1400" spc="-1" strike="noStrike">
                <a:solidFill>
                  <a:srgbClr val="000000"/>
                </a:solidFill>
                <a:latin typeface="Verdana"/>
              </a:rPr>
              <a:t>- сторона, відповідальна за реєстрацію сторін, пов</a:t>
            </a:r>
            <a:r>
              <a:rPr b="0" lang="en-US" sz="1400" spc="-1" strike="noStrike">
                <a:solidFill>
                  <a:srgbClr val="000000"/>
                </a:solidFill>
                <a:latin typeface="Verdana"/>
              </a:rPr>
              <a:t>’</a:t>
            </a:r>
            <a:r>
              <a:rPr b="0" lang="uk-UA" sz="1400" spc="-1" strike="noStrike">
                <a:solidFill>
                  <a:srgbClr val="000000"/>
                </a:solidFill>
                <a:latin typeface="Verdana"/>
              </a:rPr>
              <a:t>язаних  з точками вимірювання в електричній мережі, а також регістрацію техничної спеціфікації точки вимірювання. Вона також відповідальна за створення та припинення існування точок вимірювання.</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E8FB02D-FA90-49B4-B12F-4D0386F42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Measure</a:t>
            </a:r>
            <a:r>
              <a:rPr b="0" lang="en-GB" sz="3200" spc="-1" strike="noStrike">
                <a:solidFill>
                  <a:srgbClr val="006666"/>
                </a:solidFill>
                <a:latin typeface="Arial"/>
              </a:rPr>
              <a:t>: Collect, Validate,</a:t>
            </a:r>
            <a:r>
              <a:rPr b="0" lang="uk-UA" sz="3200" spc="-1" strike="noStrike">
                <a:solidFill>
                  <a:srgbClr val="006666"/>
                </a:solidFill>
                <a:latin typeface="Arial"/>
              </a:rPr>
              <a:t> </a:t>
            </a:r>
            <a:r>
              <a:rPr b="0" lang="en-GB" sz="3200" spc="-1" strike="noStrike">
                <a:solidFill>
                  <a:srgbClr val="006666"/>
                </a:solidFill>
                <a:latin typeface="Arial"/>
              </a:rPr>
              <a:t>Aggregate</a:t>
            </a:r>
            <a:endParaRPr b="0" lang="en-US" sz="3200" spc="-1" strike="noStrike">
              <a:solidFill>
                <a:srgbClr val="006666"/>
              </a:solidFill>
              <a:latin typeface="Arial"/>
            </a:endParaRPr>
          </a:p>
        </p:txBody>
      </p:sp>
      <p:pic>
        <p:nvPicPr>
          <p:cNvPr id="103" name="" descr=""/>
          <p:cNvPicPr/>
          <p:nvPr/>
        </p:nvPicPr>
        <p:blipFill>
          <a:blip r:embed="rId1"/>
          <a:stretch/>
        </p:blipFill>
        <p:spPr>
          <a:xfrm>
            <a:off x="2535120" y="1827360"/>
            <a:ext cx="4981680" cy="4114800"/>
          </a:xfrm>
          <a:prstGeom prst="rect">
            <a:avLst/>
          </a:prstGeom>
          <a:ln w="0">
            <a:noFill/>
          </a:ln>
        </p:spPr>
      </p:pic>
      <p:sp>
        <p:nvSpPr>
          <p:cNvPr id="3" name="PlaceHolder 2"/>
          <p:cNvSpPr>
            <a:spLocks noGrp="1"/>
          </p:cNvSpPr>
          <p:nvPr>
            <p:ph type="sldNum" idx="3"/>
          </p:nvPr>
        </p:nvSpPr>
        <p:spPr/>
        <p:txBody>
          <a:bodyPr/>
          <a:p>
            <a:fld id="{1A9FAB27-B968-43C6-9B80-2C039C488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мерційний облік  електричної  енергії  на  ринку електричної   енергії  здійснюється  з  метою  забезпечення розрахунків між суб’єктами ринку електричної енергії на основі  достовірної  інформації   про   обсяги   відпуску,   передачі, постачання  електричної  енергії  на  ринку електричної енергії.</a:t>
            </a:r>
            <a:r>
              <a:rPr b="0" lang="uk-U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1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мерційний облік  здійснюється  в   кожній   точці   приєднання електроустановок, де визначаються  обсяги  електричної  енергії,  що  передається  від одного учасника ринку до іншого.</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63F2834-AE05-4746-B9ED-7B8A7ABE7D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Основні принципи комерційного обліку </a:t>
            </a:r>
            <a:br>
              <a:rPr sz="2800"/>
            </a:br>
            <a:r>
              <a:rPr b="0" lang="uk-UA" sz="1600" spc="-1" strike="noStrike">
                <a:solidFill>
                  <a:srgbClr val="006666"/>
                </a:solidFill>
                <a:latin typeface="Arial"/>
              </a:rPr>
              <a:t>(відповідно до проекту Закону України “Про засади функціонування ринку електричної енергії України”)</a:t>
            </a:r>
            <a:endParaRPr b="0" lang="en-US" sz="1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1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Відповідальність за забезпечення комерційного обліку в точці приєднання електроустановки несе сторона відповідальна за комерційний облік в цій точці.</a:t>
            </a:r>
            <a:r>
              <a:rPr b="0" lang="uk-UA" sz="2800" spc="-1" strike="noStrike">
                <a:solidFill>
                  <a:srgbClr val="000000"/>
                </a:solidFill>
                <a:latin typeface="Verdana"/>
              </a:rPr>
              <a:t>	</a:t>
            </a:r>
            <a:r>
              <a:rPr b="0" lang="uk-UA"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Сторона відповідальна за комерційний облік визначається у порядку встановленому кодексом комерційного обліку.</a:t>
            </a:r>
            <a:r>
              <a:rPr b="0" lang="uk-UA" sz="2800" spc="-1" strike="noStrike">
                <a:solidFill>
                  <a:srgbClr val="000000"/>
                </a:solidFill>
                <a:latin typeface="Verdana"/>
              </a:rPr>
              <a:t>	</a:t>
            </a:r>
            <a:r>
              <a:rPr b="0" lang="uk-UA"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D08BA83-E631-492D-8E9A-4DF96B271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1:05:34Z</dcterms:created>
  <dc:creator>windows</dc:creator>
  <dc:description/>
  <dc:language>en-US</dc:language>
  <cp:lastModifiedBy>TU_Popovych</cp:lastModifiedBy>
  <dcterms:modified xsi:type="dcterms:W3CDTF">2009-04-08T12:40:55Z</dcterms:modified>
  <cp:revision>70</cp:revision>
  <dc:subject/>
  <dc:title>Нормативне регулювання питань створення та впровадження систем комерційного обліку електричної енергії та інформаційного обміну на оптовому та роздрібному ринку електричної енергії України.</dc:title>
</cp:coreProperties>
</file>