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15160" cy="994716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526">
                <a:moveTo>
                  <a:pt x="5" y="0"/>
                </a:moveTo>
                <a:arcTo wR="5" hR="5" stAng="16200000" swAng="-5400000"/>
                <a:lnTo>
                  <a:pt x="0" y="31521"/>
                </a:lnTo>
                <a:arcTo wR="5" hR="5" stAng="10800000" swAng="-5400000"/>
                <a:lnTo>
                  <a:pt x="21595" y="315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15160" cy="994716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526">
                <a:moveTo>
                  <a:pt x="5" y="0"/>
                </a:moveTo>
                <a:arcTo wR="5" hR="5" stAng="16200000" swAng="-5400000"/>
                <a:lnTo>
                  <a:pt x="0" y="31521"/>
                </a:lnTo>
                <a:arcTo wR="5" hR="5" stAng="10800000" swAng="-5400000"/>
                <a:lnTo>
                  <a:pt x="21595" y="315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15160" cy="994716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526">
                <a:moveTo>
                  <a:pt x="5" y="0"/>
                </a:moveTo>
                <a:arcTo wR="5" hR="5" stAng="16200000" swAng="-5400000"/>
                <a:lnTo>
                  <a:pt x="0" y="31521"/>
                </a:lnTo>
                <a:arcTo wR="5" hR="5" stAng="10800000" swAng="-5400000"/>
                <a:lnTo>
                  <a:pt x="21595" y="315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15160" cy="994716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526">
                <a:moveTo>
                  <a:pt x="5" y="0"/>
                </a:moveTo>
                <a:arcTo wR="5" hR="5" stAng="16200000" swAng="-5400000"/>
                <a:lnTo>
                  <a:pt x="0" y="31521"/>
                </a:lnTo>
                <a:arcTo wR="5" hR="5" stAng="10800000" swAng="-5400000"/>
                <a:lnTo>
                  <a:pt x="21595" y="315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9200" y="-360"/>
            <a:ext cx="2946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654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0760" y="4724280"/>
            <a:ext cx="544500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46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9200" y="9445680"/>
            <a:ext cx="2946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2B6E7-8883-4BA1-A860-03C73AF6D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20880" y="746280"/>
            <a:ext cx="497016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2088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2088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46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855-94FA-46AD-8C95-1266C4AB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429-09A9-4669-8DFD-09927F2B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819-F5E5-47A3-BCDE-72D2FFFF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E8E-F2B8-4F78-B44A-77865957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41D-57D6-4073-B3CE-019A4E1E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1C8-C721-405E-BFDD-2F48DD1E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393-22E8-4935-8C0F-85F62CA0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752-2E67-4043-B8F9-7C61FA97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5CC-D6C0-4D94-960A-2DEC448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C65-EA1F-4737-A4E6-868D85F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220-0E61-4E99-837D-F4FAA0A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083-C096-4924-9FEF-4BC8186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DEDF-E8CC-470B-B812-FB655593DF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Реформування оптового ринку електричної енергії Украї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40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3E6-0A59-4547-9A15-BE30E704C2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9280" y="360360"/>
            <a:ext cx="8820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b1f6f"/>
                </a:solidFill>
                <a:latin typeface="Arial"/>
              </a:rPr>
              <a:t>Передумови переходу до Етапу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816200"/>
            <a:ext cx="850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Розробка архітектури, впровадження і успішне випробування системи балансуючого ри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Забезпечення збору даних комерційного обліку та розрахунків за всіма торговельними операці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Встановлення правил та системи реєстрації сторін, відповідальних за балансу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Розробка системи удосконаленого прогнозування споживання і розрахунків своїх заявок та пропозиці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7174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729-50DE-4003-A436-BB9B5C6492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387360"/>
            <a:ext cx="85788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Етап 2 – Запровадження балансуючого механі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816200"/>
            <a:ext cx="850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71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одальше відкриття ри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Додається механізм балансування в реальному часі, а саме відбувається активація заявок і пропозицій на баланс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Усі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постачальники повинні сплачувати ціну небалансу, що складається з витрат / ціни балансуючого механіз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C16-2626-43A1-9728-8B1BA5C27C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8203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Передумови переходу до Етапу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739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Розробка повної структури і запровадження роботи біржі електроенергії на добу нап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Розробка необхідних інформаційних систем</a:t>
            </a: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систем реєстрації учасників ринку, подачі заявок, визначення рівноважної ціни, розрахунків)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6BC-1EC1-4E19-95E4-34CCB63119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252000"/>
            <a:ext cx="8218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Етап 3 – Запровадження самостійного складання графі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Відмова від пулу “на добу наперед” з централізованим складанням графі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Учасники ринку несуть повну відповідальність за власні плани виробництва / прогнози спожи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Самостійне складання індивідуальних графіків вироб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Доповнюється двома перехідними за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Впровадження початкових договорів для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регульованих” споживач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Створення біржі електричної енер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2A3-B0EC-4DA6-8A5C-DA7CC3DDC1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88203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Передумови переходу до Етапу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Затвердження положення стосовно “гарантованих” постачальник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Скасування (або суттєве зменшення) обсягів субсидій для певних категорій споживач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Узгодження системи визначення умовного графіку навантаження споживачів без приладів погодинного обліку (побутові споживачі)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149-8A88-4301-A72F-8D12741146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71360"/>
            <a:ext cx="82184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Етап 4 – Кінцева модель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Останнім кроком переходу до майбутнього ОРЕ стане відмова від усіх перехідних заходів, які ще діятимуть на то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Відкриття ринку досягне свого останнього етапу – повна лібераліза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2D6-2F6F-465A-ABE2-544A62D0511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Перший етап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921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Заходи з підготовки переходу до першого етапу: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«Графік виконання заходів з підготовки першого етапу переходу до ринку двосторонніх договорів»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аралельне функціонування діючого ОРЕ та ринку двосторонніх догов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Участь виробників на ринку двосторонніх договорів в межах кво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Купівля-продаж електричної енергії на аукціо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6335640"/>
            <a:ext cx="360360" cy="17964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A82-0CD5-429B-9C19-F51E299106D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189000"/>
            <a:ext cx="8713800" cy="6480000"/>
          </a:xfrm>
          <a:prstGeom prst="roundRect">
            <a:avLst>
              <a:gd name="adj" fmla="val 2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3979800"/>
            <a:ext cx="1744560" cy="172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Квота НАЕК «Енергоатом», МВ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4483080"/>
            <a:ext cx="1150920" cy="957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Обсяг е/е НА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«Енергоатом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на аукці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06760" y="2031840"/>
            <a:ext cx="1028520" cy="965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НК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3213000"/>
            <a:ext cx="1512720" cy="532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НАЕК «Енергоатом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2540160"/>
            <a:ext cx="997200" cy="534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ГК Т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484280"/>
            <a:ext cx="1231920" cy="700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Інші виробн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6"/>
            <a:endCxn id="224" idx="0"/>
          </p:cNvCxnSpPr>
          <p:nvPr/>
        </p:nvCxnSpPr>
        <p:spPr>
          <a:xfrm>
            <a:off x="1981080" y="3477960"/>
            <a:ext cx="224640" cy="50184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250920" y="26028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Організація купівлі-продажу електричної енергії на аукціо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5300640"/>
            <a:ext cx="1657440" cy="790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Кваліфікований спожив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2611440"/>
            <a:ext cx="990360" cy="59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Прямий договір 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А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53400" y="4106880"/>
            <a:ext cx="100800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3" idx="3"/>
            <a:endCxn id="234" idx="0"/>
          </p:cNvCxnSpPr>
          <p:nvPr/>
        </p:nvCxnSpPr>
        <p:spPr>
          <a:xfrm>
            <a:off x="8010360" y="2909520"/>
            <a:ext cx="348480" cy="119736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7051680" y="3330720"/>
            <a:ext cx="846000" cy="62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Прямий договір 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Т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3"/>
            <a:endCxn id="234" idx="0"/>
          </p:cNvCxnSpPr>
          <p:nvPr/>
        </p:nvCxnSpPr>
        <p:spPr>
          <a:xfrm>
            <a:off x="7897320" y="3641760"/>
            <a:ext cx="461160" cy="46584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4427640" y="2565360"/>
            <a:ext cx="2449440" cy="237636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83040" y="2933640"/>
            <a:ext cx="1603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ДП «Енергори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3357720"/>
            <a:ext cx="898560" cy="10634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Аукці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300720" y="2630520"/>
            <a:ext cx="719280" cy="1309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40" idx="3"/>
            <a:endCxn id="236" idx="1"/>
          </p:cNvCxnSpPr>
          <p:nvPr/>
        </p:nvCxnSpPr>
        <p:spPr>
          <a:xfrm flipV="1">
            <a:off x="6333840" y="3641400"/>
            <a:ext cx="717840" cy="248400"/>
          </a:xfrm>
          <a:prstGeom prst="straightConnector1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4" idx="4"/>
            <a:endCxn id="232" idx="6"/>
          </p:cNvCxnSpPr>
          <p:nvPr/>
        </p:nvCxnSpPr>
        <p:spPr>
          <a:xfrm flipH="1">
            <a:off x="8244720" y="4716000"/>
            <a:ext cx="111960" cy="980280"/>
          </a:xfrm>
          <a:prstGeom prst="straightConnector1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235320" y="4462560"/>
            <a:ext cx="1407960" cy="162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Квота ТЕС,  МВ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52760" y="4944960"/>
            <a:ext cx="801720" cy="68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Обсяг  е/е ГК ТЕ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на аукці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827440"/>
            <a:ext cx="2338560" cy="1025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63880" y="3852720"/>
            <a:ext cx="1800" cy="609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987880" y="4404960"/>
            <a:ext cx="1800" cy="21985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6597720"/>
            <a:ext cx="210168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5632560"/>
            <a:ext cx="1440" cy="965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96000" y="4430880"/>
            <a:ext cx="19080" cy="21002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08160" y="6524640"/>
            <a:ext cx="3706920" cy="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5419800"/>
            <a:ext cx="1800" cy="1104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74840" y="2781360"/>
            <a:ext cx="432000" cy="1198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2708280"/>
            <a:ext cx="647640" cy="1754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459080"/>
            <a:ext cx="623880" cy="7016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9640" y="1846440"/>
            <a:ext cx="623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8360" y="1017720"/>
            <a:ext cx="36003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102060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utura Md BT"/>
              </a:rPr>
              <a:t>Продукти аукціону: рівний графіки електроенерг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19640" y="6300720"/>
            <a:ext cx="360360" cy="17928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BAC-EFED-4A7F-90A2-26B3EEA3E47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42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Нормативна база нового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Закон України “Про засади функціонування ринку електричної енергії в Україні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Зміни до Закону України “Про електроенергетику” та діючої нормативної б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равила функціонування ринку двосторонніх догов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Кодекс магістральних мер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равила комерційного облі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85C-EEA3-40CB-B8F2-2CF35635D5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362400" y="1806480"/>
            <a:ext cx="2038320" cy="19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C3E-7723-4663-A01D-80CBFFF17DF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63440"/>
            <a:ext cx="83930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Реформування електроенергетик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81597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реструктуризація галузі з відокремленням виробництва, передачі, розподілу та постач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4 компанії ТЕС,  2 компанії ГЕС, 1 компанію А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 компанія магістральних мер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7 регіональних розподільчих компа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996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створення оптового ринку електроенер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модель “єдиного покупц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ТЕС працюють за ціновими зая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531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40080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АЕС, ГЕС, ВЕС, ТЕЦ за регульованим тариф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E51-4562-41C2-A837-881E14EE69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40" y="123480"/>
            <a:ext cx="8856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Концепція функціонування та розвитку оптового ринку електроенергії України 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(Постанова КМУ №1789 від 16.11.2002)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6120" y="1413000"/>
            <a:ext cx="8747280" cy="4670280"/>
            <a:chOff x="276120" y="1413000"/>
            <a:chExt cx="8747280" cy="4670280"/>
          </a:xfrm>
        </p:grpSpPr>
        <p:sp>
          <p:nvSpPr>
            <p:cNvPr id="58" name=""/>
            <p:cNvSpPr/>
            <p:nvPr/>
          </p:nvSpPr>
          <p:spPr>
            <a:xfrm>
              <a:off x="276120" y="3005280"/>
              <a:ext cx="4310280" cy="25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81000" algn="ctr">
                <a:lnSpc>
                  <a:spcPct val="100000"/>
                </a:lnSpc>
                <a:tabLst>
                  <a:tab algn="l" pos="0"/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Удосконалення існуючої систе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 algn="ctr">
                <a:lnSpc>
                  <a:spcPct val="100000"/>
                </a:lnSpc>
                <a:tabLst>
                  <a:tab algn="l" pos="0"/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Повний поточний платіж та вирішення питання борг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Надати виробникам доступ до ринків пали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Удосконалити регулювання цін та тарифів, вирішити питання субсид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Удосконалити нормативну, правову та контрактну базу 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Установити і контролювати конкуренці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8100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Усунути адміністративне втруч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05080" y="1413000"/>
              <a:ext cx="4564080" cy="1272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Єдина Концепці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функціонування та розвитку 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02000" y="5765760"/>
              <a:ext cx="41828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Майбутня модель на основі світового досві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55560" y="2475000"/>
              <a:ext cx="2161800" cy="317520"/>
              <a:chOff x="655560" y="2475000"/>
              <a:chExt cx="2161800" cy="317520"/>
            </a:xfrm>
          </p:grpSpPr>
          <p:sp>
            <p:nvSpPr>
              <p:cNvPr id="62" name=""/>
              <p:cNvSpPr/>
              <p:nvPr/>
            </p:nvSpPr>
            <p:spPr>
              <a:xfrm>
                <a:off x="655560" y="2475000"/>
                <a:ext cx="152100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Вирішення поточних проблем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425320" y="2579760"/>
                <a:ext cx="39204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361200" y="2475000"/>
              <a:ext cx="2662200" cy="317520"/>
              <a:chOff x="6361200" y="2475000"/>
              <a:chExt cx="2662200" cy="317520"/>
            </a:xfrm>
          </p:grpSpPr>
          <p:sp>
            <p:nvSpPr>
              <p:cNvPr id="65" name=""/>
              <p:cNvSpPr/>
              <p:nvPr/>
            </p:nvSpPr>
            <p:spPr>
              <a:xfrm>
                <a:off x="6867360" y="2475000"/>
                <a:ext cx="215604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Визначений оптимальн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перехід до майбутньої модел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361200" y="2579760"/>
                <a:ext cx="37944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586400" y="3005280"/>
              <a:ext cx="4309920" cy="2547720"/>
              <a:chOff x="4586400" y="3005280"/>
              <a:chExt cx="4309920" cy="2547720"/>
            </a:xfrm>
          </p:grpSpPr>
          <p:sp>
            <p:nvSpPr>
              <p:cNvPr id="68" name=""/>
              <p:cNvSpPr/>
              <p:nvPr/>
            </p:nvSpPr>
            <p:spPr>
              <a:xfrm>
                <a:off x="4586400" y="3005280"/>
                <a:ext cx="4309920" cy="254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88920" algn="ctr"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Поетапне впровадження двосторонніх контракті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 algn="ctr"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між ТЕЦ та постачальником (П)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та/або кінцевим споживачем (КС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між ТЕЦ, ТЕС, АЕС та 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та/або КС, річне споживання К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&gt; 250 млн. кВт год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між ТЕЦ, ТЕС, АЕС та 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та/або КС, річне споживання К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88920">
                  <a:lnSpc>
                    <a:spcPct val="100000"/>
                  </a:lnSpc>
                  <a:tabLst>
                    <a:tab algn="l" pos="0"/>
                    <a:tab algn="l" pos="171360"/>
                    <a:tab algn="l" pos="619200"/>
                    <a:tab algn="l" pos="1068480"/>
                    <a:tab algn="l" pos="1517760"/>
                    <a:tab algn="l" pos="1967040"/>
                    <a:tab algn="l" pos="2416320"/>
                    <a:tab algn="l" pos="2865600"/>
                    <a:tab algn="l" pos="3314880"/>
                    <a:tab algn="l" pos="3763800"/>
                    <a:tab algn="l" pos="4213080"/>
                    <a:tab algn="l" pos="4662360"/>
                    <a:tab algn="l" pos="5111640"/>
                    <a:tab algn="l" pos="5560920"/>
                    <a:tab algn="l" pos="6010200"/>
                    <a:tab algn="l" pos="6459480"/>
                    <a:tab algn="l" pos="6908760"/>
                    <a:tab algn="l" pos="7358040"/>
                    <a:tab algn="l" pos="7807320"/>
                    <a:tab algn="l" pos="8256600"/>
                    <a:tab algn="l" pos="8705880"/>
                    <a:tab algn="l" pos="91551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&gt; 100 млн. кВт год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8008920" y="3641760"/>
                <a:ext cx="803160" cy="1633680"/>
                <a:chOff x="8008920" y="3641760"/>
                <a:chExt cx="803160" cy="163368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8558280" y="3641760"/>
                  <a:ext cx="253800" cy="1633680"/>
                  <a:chOff x="8558280" y="3641760"/>
                  <a:chExt cx="253800" cy="163368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8558280" y="3895560"/>
                    <a:ext cx="253800" cy="1379880"/>
                  </a:xfrm>
                  <a:prstGeom prst="downArrow">
                    <a:avLst>
                      <a:gd name="adj1" fmla="val 50000"/>
                      <a:gd name="adj2" fmla="val 135922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616960" y="3740040"/>
                    <a:ext cx="127080" cy="1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616960" y="3641760"/>
                    <a:ext cx="112680" cy="414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"/>
                <p:cNvSpPr/>
                <p:nvPr/>
              </p:nvSpPr>
              <p:spPr>
                <a:xfrm>
                  <a:off x="8023320" y="3689280"/>
                  <a:ext cx="63324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008920" y="5021280"/>
                  <a:ext cx="63360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" name=""/>
          <p:cNvSpPr/>
          <p:nvPr/>
        </p:nvSpPr>
        <p:spPr>
          <a:xfrm>
            <a:off x="4319640" y="6300720"/>
            <a:ext cx="360360" cy="17928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52F-9F16-41DE-B95E-4DA3F73DE1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Нова модель ринку – ринок двосторонніх договорів та балансуючий ри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16480" y="1197000"/>
            <a:ext cx="1627200" cy="1203480"/>
          </a:xfrm>
          <a:custGeom>
            <a:avLst/>
            <a:gdLst/>
            <a:ahLst/>
            <a:rect l="l" t="t" r="r" b="b"/>
            <a:pathLst>
              <a:path w="1895" h="1324">
                <a:moveTo>
                  <a:pt x="948" y="0"/>
                </a:moveTo>
                <a:lnTo>
                  <a:pt x="0" y="1324"/>
                </a:lnTo>
                <a:lnTo>
                  <a:pt x="1895" y="1324"/>
                </a:lnTo>
                <a:lnTo>
                  <a:pt x="948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31800" y="5913360"/>
            <a:ext cx="7594560" cy="414360"/>
            <a:chOff x="631800" y="5913360"/>
            <a:chExt cx="7594560" cy="414360"/>
          </a:xfrm>
        </p:grpSpPr>
        <p:sp>
          <p:nvSpPr>
            <p:cNvPr id="80" name=""/>
            <p:cNvSpPr/>
            <p:nvPr/>
          </p:nvSpPr>
          <p:spPr>
            <a:xfrm>
              <a:off x="631800" y="5918040"/>
              <a:ext cx="2351160" cy="409680"/>
            </a:xfrm>
            <a:custGeom>
              <a:avLst/>
              <a:gdLst/>
              <a:ahLst/>
              <a:rect l="l" t="t" r="r" b="b"/>
              <a:pathLst>
                <a:path w="3102" h="258">
                  <a:moveTo>
                    <a:pt x="2703" y="0"/>
                  </a:moveTo>
                  <a:lnTo>
                    <a:pt x="0" y="0"/>
                  </a:lnTo>
                  <a:lnTo>
                    <a:pt x="398" y="128"/>
                  </a:lnTo>
                  <a:lnTo>
                    <a:pt x="0" y="258"/>
                  </a:lnTo>
                  <a:lnTo>
                    <a:pt x="2703" y="258"/>
                  </a:lnTo>
                  <a:lnTo>
                    <a:pt x="3102" y="128"/>
                  </a:lnTo>
                  <a:lnTo>
                    <a:pt x="270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22480" y="6016680"/>
              <a:ext cx="135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500" spc="-1" strike="noStrike">
                  <a:solidFill>
                    <a:srgbClr val="000000"/>
                  </a:solidFill>
                  <a:latin typeface="Arial"/>
                </a:rPr>
                <a:t>Виробництв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89320" y="5918040"/>
              <a:ext cx="2314440" cy="409680"/>
            </a:xfrm>
            <a:custGeom>
              <a:avLst/>
              <a:gdLst/>
              <a:ahLst/>
              <a:rect l="l" t="t" r="r" b="b"/>
              <a:pathLst>
                <a:path w="3054" h="258">
                  <a:moveTo>
                    <a:pt x="2661" y="0"/>
                  </a:moveTo>
                  <a:lnTo>
                    <a:pt x="0" y="0"/>
                  </a:lnTo>
                  <a:lnTo>
                    <a:pt x="393" y="128"/>
                  </a:lnTo>
                  <a:lnTo>
                    <a:pt x="0" y="258"/>
                  </a:lnTo>
                  <a:lnTo>
                    <a:pt x="2661" y="258"/>
                  </a:lnTo>
                  <a:lnTo>
                    <a:pt x="3054" y="128"/>
                  </a:lnTo>
                  <a:lnTo>
                    <a:pt x="2661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3400" y="6016680"/>
              <a:ext cx="90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5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3360" y="5913360"/>
              <a:ext cx="2313000" cy="409680"/>
            </a:xfrm>
            <a:custGeom>
              <a:avLst/>
              <a:gdLst/>
              <a:ahLst/>
              <a:rect l="l" t="t" r="r" b="b"/>
              <a:pathLst>
                <a:path w="3054" h="258">
                  <a:moveTo>
                    <a:pt x="2662" y="0"/>
                  </a:moveTo>
                  <a:lnTo>
                    <a:pt x="0" y="0"/>
                  </a:lnTo>
                  <a:lnTo>
                    <a:pt x="393" y="128"/>
                  </a:lnTo>
                  <a:lnTo>
                    <a:pt x="0" y="258"/>
                  </a:lnTo>
                  <a:lnTo>
                    <a:pt x="2662" y="258"/>
                  </a:lnTo>
                  <a:lnTo>
                    <a:pt x="3054" y="128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59480" y="6012000"/>
              <a:ext cx="119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500" spc="-1" strike="noStrike">
                  <a:solidFill>
                    <a:srgbClr val="000000"/>
                  </a:solidFill>
                  <a:latin typeface="Arial"/>
                </a:rPr>
                <a:t>Споживанн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1800" y="2762280"/>
            <a:ext cx="1185840" cy="2536560"/>
            <a:chOff x="631800" y="2762280"/>
            <a:chExt cx="1185840" cy="2536560"/>
          </a:xfrm>
        </p:grpSpPr>
        <p:sp>
          <p:nvSpPr>
            <p:cNvPr id="87" name=""/>
            <p:cNvSpPr/>
            <p:nvPr/>
          </p:nvSpPr>
          <p:spPr>
            <a:xfrm>
              <a:off x="631800" y="2762280"/>
              <a:ext cx="1185840" cy="37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1480" y="283536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1800" y="3249720"/>
              <a:ext cx="1185840" cy="376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1480" y="332280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1800" y="3735360"/>
              <a:ext cx="1185840" cy="37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1480" y="3808440"/>
              <a:ext cx="100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1800" y="4222800"/>
              <a:ext cx="1185840" cy="376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1480" y="4294080"/>
              <a:ext cx="1003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1800" y="4707000"/>
              <a:ext cx="1185840" cy="379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1480" y="4780080"/>
              <a:ext cx="1003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родав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31800" y="5378400"/>
            <a:ext cx="7666200" cy="42840"/>
            <a:chOff x="631800" y="5378400"/>
            <a:chExt cx="7666200" cy="42840"/>
          </a:xfrm>
        </p:grpSpPr>
        <p:sp>
          <p:nvSpPr>
            <p:cNvPr id="98" name=""/>
            <p:cNvSpPr/>
            <p:nvPr/>
          </p:nvSpPr>
          <p:spPr>
            <a:xfrm>
              <a:off x="6318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62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92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368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81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511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9556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00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830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274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188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163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93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376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482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90840" y="5378400"/>
              <a:ext cx="1400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35640" y="5378400"/>
              <a:ext cx="1378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68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128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657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1016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5316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976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20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850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2948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39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1692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136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580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50240" y="5378400"/>
              <a:ext cx="139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3240" y="5378400"/>
              <a:ext cx="10476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99000" y="5219640"/>
            <a:ext cx="1423800" cy="730440"/>
          </a:xfrm>
          <a:custGeom>
            <a:avLst/>
            <a:gdLst/>
            <a:ahLst/>
            <a:rect l="l" t="t" r="r" b="b"/>
            <a:pathLst>
              <a:path w="1880" h="460">
                <a:moveTo>
                  <a:pt x="238" y="0"/>
                </a:moveTo>
                <a:lnTo>
                  <a:pt x="0" y="135"/>
                </a:lnTo>
                <a:lnTo>
                  <a:pt x="0" y="325"/>
                </a:lnTo>
                <a:lnTo>
                  <a:pt x="238" y="460"/>
                </a:lnTo>
                <a:lnTo>
                  <a:pt x="1642" y="460"/>
                </a:lnTo>
                <a:lnTo>
                  <a:pt x="1880" y="325"/>
                </a:lnTo>
                <a:lnTo>
                  <a:pt x="1880" y="135"/>
                </a:lnTo>
                <a:lnTo>
                  <a:pt x="1642" y="0"/>
                </a:lnTo>
                <a:lnTo>
                  <a:pt x="238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7040" y="5338800"/>
            <a:ext cx="127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700" spc="-1" strike="noStrike">
                <a:solidFill>
                  <a:srgbClr val="ffffff"/>
                </a:solidFill>
                <a:latin typeface="Arial"/>
              </a:rPr>
              <a:t>Систем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1920" y="5618160"/>
            <a:ext cx="11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700" spc="-1" strike="noStrike"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34240" y="2762280"/>
            <a:ext cx="1185840" cy="2324160"/>
            <a:chOff x="6834240" y="2762280"/>
            <a:chExt cx="1185840" cy="2324160"/>
          </a:xfrm>
        </p:grpSpPr>
        <p:sp>
          <p:nvSpPr>
            <p:cNvPr id="134" name=""/>
            <p:cNvSpPr/>
            <p:nvPr/>
          </p:nvSpPr>
          <p:spPr>
            <a:xfrm>
              <a:off x="6834240" y="2762280"/>
              <a:ext cx="1185840" cy="37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52040" y="283536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34240" y="3249720"/>
              <a:ext cx="1185840" cy="37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50600" y="332280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34240" y="3735360"/>
              <a:ext cx="1185840" cy="37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50600" y="380844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4240" y="4222800"/>
              <a:ext cx="1185840" cy="37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0600" y="429408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4240" y="4707000"/>
              <a:ext cx="11858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0600" y="478008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Покупц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1800" y="1766880"/>
            <a:ext cx="7388280" cy="500040"/>
            <a:chOff x="631800" y="1766880"/>
            <a:chExt cx="7388280" cy="500040"/>
          </a:xfrm>
        </p:grpSpPr>
        <p:sp>
          <p:nvSpPr>
            <p:cNvPr id="145" name=""/>
            <p:cNvSpPr/>
            <p:nvPr/>
          </p:nvSpPr>
          <p:spPr>
            <a:xfrm>
              <a:off x="631800" y="1766880"/>
              <a:ext cx="1185840" cy="500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0080" y="190008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Імпор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34240" y="1766880"/>
              <a:ext cx="1185840" cy="500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38000" y="1900080"/>
              <a:ext cx="87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Експор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843200" y="4446720"/>
            <a:ext cx="911160" cy="502920"/>
            <a:chOff x="1843200" y="4446720"/>
            <a:chExt cx="911160" cy="502920"/>
          </a:xfrm>
        </p:grpSpPr>
        <p:sp>
          <p:nvSpPr>
            <p:cNvPr id="150" name=""/>
            <p:cNvSpPr/>
            <p:nvPr/>
          </p:nvSpPr>
          <p:spPr>
            <a:xfrm flipV="1">
              <a:off x="1843200" y="4466880"/>
              <a:ext cx="86832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00360" y="4446720"/>
              <a:ext cx="54000" cy="54000"/>
            </a:xfrm>
            <a:custGeom>
              <a:avLst/>
              <a:gdLst/>
              <a:ahLst/>
              <a:rect l="l" t="t" r="r" b="b"/>
              <a:pathLst>
                <a:path w="132" h="62">
                  <a:moveTo>
                    <a:pt x="50" y="62"/>
                  </a:moveTo>
                  <a:lnTo>
                    <a:pt x="132" y="3"/>
                  </a:lnTo>
                  <a:lnTo>
                    <a:pt x="0" y="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843200" y="4098960"/>
            <a:ext cx="917640" cy="353520"/>
            <a:chOff x="1843200" y="4098960"/>
            <a:chExt cx="917640" cy="353520"/>
          </a:xfrm>
        </p:grpSpPr>
        <p:sp>
          <p:nvSpPr>
            <p:cNvPr id="153" name=""/>
            <p:cNvSpPr/>
            <p:nvPr/>
          </p:nvSpPr>
          <p:spPr>
            <a:xfrm flipV="1">
              <a:off x="1843200" y="4122360"/>
              <a:ext cx="8697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5040" y="4098960"/>
              <a:ext cx="55800" cy="60120"/>
            </a:xfrm>
            <a:custGeom>
              <a:avLst/>
              <a:gdLst/>
              <a:ahLst/>
              <a:rect l="l" t="t" r="r" b="b"/>
              <a:pathLst>
                <a:path w="131" h="66">
                  <a:moveTo>
                    <a:pt x="35" y="66"/>
                  </a:moveTo>
                  <a:lnTo>
                    <a:pt x="131" y="13"/>
                  </a:lnTo>
                  <a:lnTo>
                    <a:pt x="0" y="0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43200" y="3774960"/>
            <a:ext cx="961920" cy="179640"/>
            <a:chOff x="1843200" y="3774960"/>
            <a:chExt cx="961920" cy="179640"/>
          </a:xfrm>
        </p:grpSpPr>
        <p:sp>
          <p:nvSpPr>
            <p:cNvPr id="156" name=""/>
            <p:cNvSpPr/>
            <p:nvPr/>
          </p:nvSpPr>
          <p:spPr>
            <a:xfrm flipV="1">
              <a:off x="1843200" y="3800520"/>
              <a:ext cx="9079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4640" y="3774960"/>
              <a:ext cx="60480" cy="6516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17" y="68"/>
                  </a:moveTo>
                  <a:lnTo>
                    <a:pt x="127" y="25"/>
                  </a:lnTo>
                  <a:lnTo>
                    <a:pt x="0" y="0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843200" y="3397320"/>
            <a:ext cx="936360" cy="84240"/>
            <a:chOff x="1843200" y="3397320"/>
            <a:chExt cx="936360" cy="84240"/>
          </a:xfrm>
        </p:grpSpPr>
        <p:sp>
          <p:nvSpPr>
            <p:cNvPr id="159" name=""/>
            <p:cNvSpPr/>
            <p:nvPr/>
          </p:nvSpPr>
          <p:spPr>
            <a:xfrm>
              <a:off x="1843200" y="3438360"/>
              <a:ext cx="88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24120" y="3397320"/>
              <a:ext cx="55440" cy="8424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0" y="69"/>
                  </a:moveTo>
                  <a:lnTo>
                    <a:pt x="119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43200" y="2954160"/>
            <a:ext cx="917640" cy="162000"/>
            <a:chOff x="1843200" y="2954160"/>
            <a:chExt cx="917640" cy="162000"/>
          </a:xfrm>
        </p:grpSpPr>
        <p:sp>
          <p:nvSpPr>
            <p:cNvPr id="162" name=""/>
            <p:cNvSpPr/>
            <p:nvPr/>
          </p:nvSpPr>
          <p:spPr>
            <a:xfrm>
              <a:off x="1843200" y="2954160"/>
              <a:ext cx="86832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6840" y="3056040"/>
              <a:ext cx="54000" cy="6012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68"/>
                  </a:moveTo>
                  <a:lnTo>
                    <a:pt x="127" y="42"/>
                  </a:lnTo>
                  <a:lnTo>
                    <a:pt x="1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916600" y="2994120"/>
            <a:ext cx="942840" cy="150480"/>
            <a:chOff x="5916600" y="2994120"/>
            <a:chExt cx="942840" cy="150480"/>
          </a:xfrm>
        </p:grpSpPr>
        <p:sp>
          <p:nvSpPr>
            <p:cNvPr id="165" name=""/>
            <p:cNvSpPr/>
            <p:nvPr/>
          </p:nvSpPr>
          <p:spPr>
            <a:xfrm flipV="1">
              <a:off x="5916600" y="3024000"/>
              <a:ext cx="88740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9320" y="2994120"/>
              <a:ext cx="60120" cy="74520"/>
            </a:xfrm>
            <a:custGeom>
              <a:avLst/>
              <a:gdLst/>
              <a:ahLst/>
              <a:rect l="l" t="t" r="r" b="b"/>
              <a:pathLst>
                <a:path w="125" h="68">
                  <a:moveTo>
                    <a:pt x="12" y="68"/>
                  </a:moveTo>
                  <a:lnTo>
                    <a:pt x="125" y="27"/>
                  </a:lnTo>
                  <a:lnTo>
                    <a:pt x="0" y="0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961240" y="3384720"/>
            <a:ext cx="898200" cy="122040"/>
            <a:chOff x="5961240" y="3384720"/>
            <a:chExt cx="898200" cy="122040"/>
          </a:xfrm>
        </p:grpSpPr>
        <p:sp>
          <p:nvSpPr>
            <p:cNvPr id="168" name=""/>
            <p:cNvSpPr/>
            <p:nvPr/>
          </p:nvSpPr>
          <p:spPr>
            <a:xfrm>
              <a:off x="5961240" y="3444840"/>
              <a:ext cx="84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02560" y="3384720"/>
              <a:ext cx="56880" cy="12204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0" y="69"/>
                  </a:moveTo>
                  <a:lnTo>
                    <a:pt x="119" y="34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916600" y="3846600"/>
            <a:ext cx="942840" cy="147600"/>
            <a:chOff x="5916600" y="3846600"/>
            <a:chExt cx="942840" cy="147600"/>
          </a:xfrm>
        </p:grpSpPr>
        <p:sp>
          <p:nvSpPr>
            <p:cNvPr id="171" name=""/>
            <p:cNvSpPr/>
            <p:nvPr/>
          </p:nvSpPr>
          <p:spPr>
            <a:xfrm>
              <a:off x="5916600" y="3846600"/>
              <a:ext cx="8874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917880"/>
              <a:ext cx="60120" cy="763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0" y="69"/>
                  </a:moveTo>
                  <a:lnTo>
                    <a:pt x="125" y="40"/>
                  </a:lnTo>
                  <a:lnTo>
                    <a:pt x="12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35680" y="4184640"/>
            <a:ext cx="922320" cy="290520"/>
            <a:chOff x="5935680" y="4184640"/>
            <a:chExt cx="922320" cy="290520"/>
          </a:xfrm>
        </p:grpSpPr>
        <p:sp>
          <p:nvSpPr>
            <p:cNvPr id="174" name=""/>
            <p:cNvSpPr/>
            <p:nvPr/>
          </p:nvSpPr>
          <p:spPr>
            <a:xfrm>
              <a:off x="5935680" y="4184640"/>
              <a:ext cx="873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99320" y="4406760"/>
              <a:ext cx="58680" cy="68400"/>
            </a:xfrm>
            <a:custGeom>
              <a:avLst/>
              <a:gdLst/>
              <a:ahLst/>
              <a:rect l="l" t="t" r="r" b="b"/>
              <a:pathLst>
                <a:path w="130" h="66">
                  <a:moveTo>
                    <a:pt x="0" y="66"/>
                  </a:moveTo>
                  <a:lnTo>
                    <a:pt x="130" y="48"/>
                  </a:lnTo>
                  <a:lnTo>
                    <a:pt x="28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29200" y="4514760"/>
            <a:ext cx="930240" cy="441360"/>
            <a:chOff x="5929200" y="4514760"/>
            <a:chExt cx="930240" cy="441360"/>
          </a:xfrm>
        </p:grpSpPr>
        <p:sp>
          <p:nvSpPr>
            <p:cNvPr id="177" name=""/>
            <p:cNvSpPr/>
            <p:nvPr/>
          </p:nvSpPr>
          <p:spPr>
            <a:xfrm>
              <a:off x="5929200" y="4514760"/>
              <a:ext cx="882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0760" y="4896000"/>
              <a:ext cx="58680" cy="6012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0" y="65"/>
                  </a:moveTo>
                  <a:lnTo>
                    <a:pt x="132" y="57"/>
                  </a:lnTo>
                  <a:lnTo>
                    <a:pt x="4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067280" y="4941720"/>
            <a:ext cx="268200" cy="287640"/>
          </a:xfrm>
          <a:custGeom>
            <a:avLst/>
            <a:gdLst/>
            <a:ahLst/>
            <a:rect l="l" t="t" r="r" b="b"/>
            <a:pathLst>
              <a:path w="355" h="327">
                <a:moveTo>
                  <a:pt x="176" y="327"/>
                </a:moveTo>
                <a:lnTo>
                  <a:pt x="351" y="262"/>
                </a:lnTo>
                <a:lnTo>
                  <a:pt x="265" y="261"/>
                </a:lnTo>
                <a:lnTo>
                  <a:pt x="267" y="65"/>
                </a:lnTo>
                <a:lnTo>
                  <a:pt x="355" y="66"/>
                </a:lnTo>
                <a:lnTo>
                  <a:pt x="178" y="0"/>
                </a:lnTo>
                <a:lnTo>
                  <a:pt x="4" y="64"/>
                </a:lnTo>
                <a:lnTo>
                  <a:pt x="90" y="65"/>
                </a:lnTo>
                <a:lnTo>
                  <a:pt x="88" y="261"/>
                </a:lnTo>
                <a:lnTo>
                  <a:pt x="0" y="260"/>
                </a:lnTo>
                <a:lnTo>
                  <a:pt x="176" y="3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2654280"/>
            <a:ext cx="912960" cy="1008000"/>
          </a:xfrm>
          <a:custGeom>
            <a:avLst/>
            <a:gdLst/>
            <a:ahLst/>
            <a:rect l="l" t="t" r="r" b="b"/>
            <a:pathLst>
              <a:path w="715" h="813">
                <a:moveTo>
                  <a:pt x="209" y="0"/>
                </a:moveTo>
                <a:lnTo>
                  <a:pt x="0" y="205"/>
                </a:lnTo>
                <a:lnTo>
                  <a:pt x="0" y="608"/>
                </a:lnTo>
                <a:lnTo>
                  <a:pt x="209" y="813"/>
                </a:lnTo>
                <a:lnTo>
                  <a:pt x="506" y="813"/>
                </a:lnTo>
                <a:lnTo>
                  <a:pt x="715" y="608"/>
                </a:lnTo>
                <a:lnTo>
                  <a:pt x="715" y="205"/>
                </a:lnTo>
                <a:lnTo>
                  <a:pt x="506" y="0"/>
                </a:lnTo>
                <a:lnTo>
                  <a:pt x="209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0200" y="2798640"/>
            <a:ext cx="925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Енер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Бірж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93960" y="2583000"/>
            <a:ext cx="3146400" cy="2358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47880" y="2035080"/>
            <a:ext cx="1846080" cy="87480"/>
            <a:chOff x="1847880" y="2035080"/>
            <a:chExt cx="1846080" cy="87480"/>
          </a:xfrm>
        </p:grpSpPr>
        <p:sp>
          <p:nvSpPr>
            <p:cNvPr id="184" name=""/>
            <p:cNvSpPr/>
            <p:nvPr/>
          </p:nvSpPr>
          <p:spPr>
            <a:xfrm>
              <a:off x="1847880" y="2077920"/>
              <a:ext cx="176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3320" y="2035080"/>
              <a:ext cx="80640" cy="8748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8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951440" y="2035080"/>
            <a:ext cx="1914480" cy="87480"/>
            <a:chOff x="4951440" y="2035080"/>
            <a:chExt cx="1914480" cy="87480"/>
          </a:xfrm>
        </p:grpSpPr>
        <p:sp>
          <p:nvSpPr>
            <p:cNvPr id="187" name=""/>
            <p:cNvSpPr/>
            <p:nvPr/>
          </p:nvSpPr>
          <p:spPr>
            <a:xfrm>
              <a:off x="4951440" y="207792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7000" y="2035080"/>
              <a:ext cx="88920" cy="8748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8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284720" y="2367000"/>
            <a:ext cx="287280" cy="431640"/>
          </a:xfrm>
          <a:custGeom>
            <a:avLst/>
            <a:gdLst/>
            <a:ahLst/>
            <a:rect l="l" t="t" r="r" b="b"/>
            <a:pathLst>
              <a:path w="361" h="445">
                <a:moveTo>
                  <a:pt x="179" y="445"/>
                </a:moveTo>
                <a:lnTo>
                  <a:pt x="361" y="357"/>
                </a:lnTo>
                <a:lnTo>
                  <a:pt x="271" y="356"/>
                </a:lnTo>
                <a:lnTo>
                  <a:pt x="271" y="89"/>
                </a:lnTo>
                <a:lnTo>
                  <a:pt x="361" y="91"/>
                </a:lnTo>
                <a:lnTo>
                  <a:pt x="182" y="0"/>
                </a:lnTo>
                <a:lnTo>
                  <a:pt x="0" y="87"/>
                </a:lnTo>
                <a:lnTo>
                  <a:pt x="90" y="89"/>
                </a:lnTo>
                <a:lnTo>
                  <a:pt x="90" y="356"/>
                </a:lnTo>
                <a:lnTo>
                  <a:pt x="0" y="354"/>
                </a:lnTo>
                <a:lnTo>
                  <a:pt x="179" y="4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70200" y="2801880"/>
            <a:ext cx="2252880" cy="1212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901960"/>
            <a:ext cx="1584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Двосторон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догов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Позабіржо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угоди)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1720" y="4064040"/>
            <a:ext cx="1478160" cy="87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54400" y="3624120"/>
            <a:ext cx="349200" cy="398520"/>
          </a:xfrm>
          <a:custGeom>
            <a:avLst/>
            <a:gdLst/>
            <a:ahLst/>
            <a:rect l="l" t="t" r="r" b="b"/>
            <a:pathLst>
              <a:path w="425" h="404">
                <a:moveTo>
                  <a:pt x="87" y="19"/>
                </a:moveTo>
                <a:lnTo>
                  <a:pt x="0" y="184"/>
                </a:lnTo>
                <a:lnTo>
                  <a:pt x="68" y="137"/>
                </a:lnTo>
                <a:lnTo>
                  <a:pt x="220" y="358"/>
                </a:lnTo>
                <a:lnTo>
                  <a:pt x="151" y="404"/>
                </a:lnTo>
                <a:lnTo>
                  <a:pt x="338" y="386"/>
                </a:lnTo>
                <a:lnTo>
                  <a:pt x="425" y="221"/>
                </a:lnTo>
                <a:lnTo>
                  <a:pt x="357" y="267"/>
                </a:lnTo>
                <a:lnTo>
                  <a:pt x="205" y="47"/>
                </a:lnTo>
                <a:lnTo>
                  <a:pt x="275" y="0"/>
                </a:lnTo>
                <a:lnTo>
                  <a:pt x="87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60920" y="3727440"/>
            <a:ext cx="306360" cy="345960"/>
          </a:xfrm>
          <a:custGeom>
            <a:avLst/>
            <a:gdLst/>
            <a:ahLst/>
            <a:rect l="l" t="t" r="r" b="b"/>
            <a:pathLst>
              <a:path w="372" h="348">
                <a:moveTo>
                  <a:pt x="146" y="348"/>
                </a:moveTo>
                <a:lnTo>
                  <a:pt x="323" y="315"/>
                </a:lnTo>
                <a:lnTo>
                  <a:pt x="242" y="297"/>
                </a:lnTo>
                <a:lnTo>
                  <a:pt x="291" y="89"/>
                </a:lnTo>
                <a:lnTo>
                  <a:pt x="372" y="106"/>
                </a:lnTo>
                <a:lnTo>
                  <a:pt x="225" y="0"/>
                </a:lnTo>
                <a:lnTo>
                  <a:pt x="49" y="33"/>
                </a:lnTo>
                <a:lnTo>
                  <a:pt x="130" y="52"/>
                </a:lnTo>
                <a:lnTo>
                  <a:pt x="81" y="259"/>
                </a:lnTo>
                <a:lnTo>
                  <a:pt x="0" y="243"/>
                </a:lnTo>
                <a:lnTo>
                  <a:pt x="146" y="34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28880" y="1809720"/>
            <a:ext cx="128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Аукці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на пере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070520"/>
            <a:ext cx="14605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Балансую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Ри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(ринок допоміжних послуг)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798640"/>
            <a:ext cx="433440" cy="281160"/>
          </a:xfrm>
          <a:custGeom>
            <a:avLst/>
            <a:gdLst/>
            <a:ahLst/>
            <a:rect l="l" t="t" r="r" b="b"/>
            <a:pathLst>
              <a:path w="526" h="285">
                <a:moveTo>
                  <a:pt x="0" y="142"/>
                </a:moveTo>
                <a:lnTo>
                  <a:pt x="105" y="285"/>
                </a:lnTo>
                <a:lnTo>
                  <a:pt x="105" y="213"/>
                </a:lnTo>
                <a:lnTo>
                  <a:pt x="421" y="213"/>
                </a:lnTo>
                <a:lnTo>
                  <a:pt x="421" y="285"/>
                </a:lnTo>
                <a:lnTo>
                  <a:pt x="526" y="142"/>
                </a:lnTo>
                <a:lnTo>
                  <a:pt x="421" y="0"/>
                </a:lnTo>
                <a:lnTo>
                  <a:pt x="421" y="70"/>
                </a:lnTo>
                <a:lnTo>
                  <a:pt x="105" y="70"/>
                </a:lnTo>
                <a:lnTo>
                  <a:pt x="105" y="0"/>
                </a:lnTo>
                <a:lnTo>
                  <a:pt x="0" y="1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6C9-5C21-46F7-9917-F08DBB9731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Модель двосторонніх договорів та балансуючого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6120" y="1843200"/>
            <a:ext cx="7283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Орієнтація на забезпечення прав та потреб спожи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Збільшення притоку інвестицій в електроенергетичну галу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Ціноутворення здійснюється на принципі повного відшкодування витр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7F2-4A8E-4647-839E-2A686ED9E7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Розробка та впровад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6920" y="1485720"/>
            <a:ext cx="7285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Компонент Е ”Впровадження Концепції Оптового ринку електроенергії України” Угоди про позику між Україною та МБРР за проектом реабілітації гідроелектростанцій /№4795–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Контракт з консорціумом КЕМА-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оетапний перехі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Розпорядження КМУ №1056 від 28.11.2007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E9D-81E8-44A0-ADC7-9A1195526A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4b1f6f"/>
                </a:solidFill>
                <a:latin typeface="Arial"/>
              </a:rPr>
              <a:t>Підхід до етапів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очаток переходу на нову модель ринку заплановано на 2009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ерехідні етапи повинні забезпечув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набуття знань у новому р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адаптацію правил на основі набутого досві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уникнення потрясі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ередумовою впровадження кожного наступного етапу є ефективне функціонування попередніх етап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DEB-1FDB-4164-8A98-AA87F25DEF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4b1f6f"/>
                </a:solidFill>
                <a:latin typeface="Arial"/>
              </a:rPr>
              <a:t>Передумови переходу до Етапу 1 нової моделі ри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Розробка достатньої нормативно-законодавчої бази для створення ринку двосторонніх договорів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та балансуючого ри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узгодження розміру відкриття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визначення квот для виробни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визначення критеріїв кваліфікован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174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Підготовка необхідного програмного забезпечення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та сис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система реєстрації учасників ринку двосторонніх договор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система обробки даних двосторонніх договорів та прогнозного споживання кваліфікованих споживачів на наступну до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- система збору даних комерційного облі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8640"/>
                <a:tab algn="l" pos="907920"/>
                <a:tab algn="l" pos="1357200"/>
                <a:tab algn="l" pos="1806480"/>
                <a:tab algn="l" pos="2255760"/>
                <a:tab algn="l" pos="2705040"/>
                <a:tab algn="l" pos="3154320"/>
                <a:tab algn="l" pos="3603600"/>
                <a:tab algn="l" pos="4052880"/>
                <a:tab algn="l" pos="4502160"/>
                <a:tab algn="l" pos="4951440"/>
                <a:tab algn="l" pos="5400720"/>
                <a:tab algn="l" pos="5850000"/>
                <a:tab algn="l" pos="6299280"/>
                <a:tab algn="l" pos="6750000"/>
                <a:tab algn="l" pos="7197840"/>
                <a:tab algn="l" pos="7647120"/>
                <a:tab algn="l" pos="8096400"/>
                <a:tab algn="l" pos="8545680"/>
                <a:tab algn="l" pos="899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033-FC97-4208-93F6-2EF19A47C3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4b1f6f"/>
                </a:solidFill>
                <a:latin typeface="Arial"/>
              </a:rPr>
              <a:t>Етап 1 – Початкове навч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44792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Допускається в обмежених обсягах двостороння торгівля електричною енергією на аукціо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Виробникам дозволено продавати певну частину (“квоту”) своєї продукції на аукціо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Постачальники електричної енергії кваліфікованим споживачам мають право купувати електричну енергію на аукціо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Двосторонні договори між виробниками та постачальниками укладаються за підсумками аукціонних торг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Продовження централізованого складання графіків, виробники продають залишкову потужність в пулі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на добу наперед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66F-455E-447D-8240-1CB547C41A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VK</dc:creator>
  <dc:description/>
  <dc:language>en-US</dc:language>
  <cp:lastModifiedBy>VALYA</cp:lastModifiedBy>
  <cp:revision>0</cp:revision>
  <dc:subject/>
  <dc:title>Слайд 1</dc:title>
</cp:coreProperties>
</file>